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F0E-3F3A-4FBA-94D3-6335C785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4D4-872F-45A3-A230-88B21BA2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0AE-95CF-4E30-8DAF-167DE879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E90-D48E-4822-9A1B-8B98F813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F9CE-23B3-4C62-9483-78560E75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F87B-6014-4C77-8214-1A6FBC02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FC30-C92C-4607-BB04-06256BB4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907-23D3-4DBF-888A-D3E5BB0B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8A34-ACD7-4D21-984F-834665F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6A09-0AD7-4367-AB1B-3AF64443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297-1EC6-4E39-939F-AD32877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A66-9F59-48C2-BE83-EB1A2743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B53A-52BF-40F6-AC15-A9E8F08B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70F7-3EE4-41CA-BF45-BFB8996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5475-8547-4D0D-923A-520D5AC3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7208-2B1A-4BD4-B41E-28F76EB0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AE5E-1911-4742-B638-01CAB5AF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6E0-56E5-4DC3-B78A-48929ECD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24E-C720-42B8-AB1F-1BF40158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441-9C7D-497D-9FB5-A29FF471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EB6-F5C1-412F-8B9F-8E5B8E5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3CF-89A4-4F40-9356-D4C7CD6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70A-00CC-4EB2-907F-9861C674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D32-F681-4EEA-9E78-D3EC5966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249B-2B15-42B2-8E14-4E5E48753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B374-3F65-465C-81DC-3E380AF99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676520"/>
            <a:ext cx="6629400" cy="2116080"/>
          </a:xfrm>
          <a:prstGeom prst="rect">
            <a:avLst/>
          </a:prstGeom>
          <a:noFill/>
          <a:ln cap="sq" w="57240">
            <a:solidFill>
              <a:srgbClr val="5f5f5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UDIO DI CAS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23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CORSO AL T.A.R. CONTRO LA BOCCIATURA DI UN ALUN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7467840" cy="5333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SIGNOR MARIO ROSSI PRESENTA RICORSO AL TAR TERRITORIALMENTE COMPETENT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UGNA LA BOCCIATURA DEL PROPRIO FIGLIO VINCEN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7010640" cy="2895480"/>
          </a:xfrm>
          <a:prstGeom prst="rect">
            <a:avLst/>
          </a:prstGeom>
          <a:noFill/>
          <a:ln cap="sq" w="12600">
            <a:solidFill>
              <a:srgbClr val="5f5f5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QUALI LE CENSURE DEDOTTE DAL RICORRENT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FETTO DI MOTIVAZIONE DEI PUNTEGGI ASSEGNATI ALLE PROVE SCRIT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ISULTA APPOSTO IL SOLO VOTO NUMER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18960" y="8380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LSO PER CONTRAFFAZION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LLE PROVE SCRITTE DEL FIGLIO I DOCENTI HANNO APPOSTO SEGNI GRAFICI (SOTTOLINEATURE, PUNTI INTERROGATIVI, TRATTIN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95280" y="456840"/>
            <a:ext cx="7467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OLAZIONE DELL’O.M. 21MAGGIO2001, N. 90, IN QUANTO  IL COLLEGIO DOCENTI HA AGITO NEL MODO SEGU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GAZIONE DELLA PROMOZIONE AGLI ALUNNI CON 4 INSUFFICIE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 CONSIDERAZIONE DELL’ENT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DELLE INSUFFICIEN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NZA DELLA POSSIBIL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DI FAR FREQUENTARE ALL’ALUNNO CORSI DI RECUPERO PER IL RAGGIUNGIMENTO DEGLI OBBIETTIVI PREFISS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00200" y="837720"/>
            <a:ext cx="7315200" cy="2133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COMPITO DEL DIRIGENTE SCOLASTICO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3352680"/>
            <a:ext cx="7238880" cy="304812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ZIONE A DIFESA DELLA AMMINISTRAZIO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0:02:13Z</dcterms:created>
  <dc:creator>pavatti</dc:creator>
  <dc:description/>
  <dc:language>en-US</dc:language>
  <cp:lastModifiedBy>bullo</cp:lastModifiedBy>
  <dcterms:modified xsi:type="dcterms:W3CDTF">2004-05-11T10:42:13Z</dcterms:modified>
  <cp:revision>21</cp:revision>
  <dc:subject/>
  <dc:title>STUDIO DI CASO</dc:title>
</cp:coreProperties>
</file>